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C7BA9-9F8A-436D-8F97-2E65B22943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BFC749-C570-4BEF-8792-C93A83D3A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2FC93C-A79F-449F-A6F9-305FB814E80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E3E60B-C7B4-479F-A3BA-48CD72381FB1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st Harrison school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634D1A-47AB-4954-9C87-8BF8AC8D1F59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69764E-587B-4555-8A98-81F85E37393E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E431B-CA29-4FDE-AC51-60A0EE0DED67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A51A4B-D35E-421D-9525-CCB36BC328F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C3CC8-DDE3-4228-BC12-95E1C4DC338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568-1960-4E7E-9952-B9EB96F5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BC9-B0FB-4484-93D6-F29B1B4A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0E6-A7D3-47FD-B5A0-C156E385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F1C-E39B-4A4E-8C5D-261A94E18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13C6-3433-4BB7-A052-242C466E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675-1005-46EE-90C0-74066EE0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140E-C54A-4AD5-8FDF-3CA3D39D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4AA-B2B6-47C8-9838-0559A4EB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0E1-A101-4071-90CB-BD992564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71B-BA2B-4DE8-B208-0D94A131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6F9-522B-4E4A-B5BF-220BD231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5DB-7F02-486D-8E74-2A6A5195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1206E-3CE3-4B33-8367-C29A866C454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lassblogmeister.com/blog.php?blogger_id=201839&amp;new_display_count=1000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cc66"/>
                </a:solidFill>
                <a:latin typeface="Arial Black"/>
              </a:rPr>
              <a:t>ACT 5</a:t>
            </a:r>
            <a:endParaRPr b="0" lang="en-US" sz="15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429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98d3"/>
                </a:solidFill>
                <a:latin typeface="Arial Black"/>
              </a:rPr>
              <a:t>What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1f98d3"/>
                </a:solidFill>
                <a:latin typeface="Arial Black"/>
              </a:rPr>
              <a:t>Teachers can do to </a:t>
            </a:r>
            <a:br>
              <a:rPr sz="6000"/>
            </a:br>
            <a:r>
              <a:rPr b="0" lang="en-US" sz="6000" spc="-1" strike="noStrike">
                <a:solidFill>
                  <a:srgbClr val="ffcc66"/>
                </a:solidFill>
                <a:latin typeface="Arial Black"/>
              </a:rPr>
              <a:t>HELP CHANG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ontent Placeholder 3" descr="Picture 1.png"/>
          <p:cNvPicPr/>
          <p:nvPr/>
        </p:nvPicPr>
        <p:blipFill>
          <a:blip r:embed="rId1"/>
          <a:srcRect l="-8946" t="0" r="-8946" b="0"/>
          <a:stretch/>
        </p:blipFill>
        <p:spPr>
          <a:xfrm>
            <a:off x="-762120" y="422280"/>
            <a:ext cx="1072044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Picture 1.png"/>
          <p:cNvPicPr/>
          <p:nvPr/>
        </p:nvPicPr>
        <p:blipFill>
          <a:blip r:embed="rId1"/>
          <a:stretch/>
        </p:blipFill>
        <p:spPr>
          <a:xfrm>
            <a:off x="0" y="727200"/>
            <a:ext cx="9144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50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odcast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4286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Picture 2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85800"/>
            <a:ext cx="914400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ontent Placeholder 4" descr="Picture 3.png"/>
          <p:cNvPicPr/>
          <p:nvPr/>
        </p:nvPicPr>
        <p:blipFill>
          <a:blip r:embed="rId1"/>
          <a:srcRect l="-12321" t="0" r="-12321" b="0"/>
          <a:stretch/>
        </p:blipFill>
        <p:spPr>
          <a:xfrm>
            <a:off x="-685800" y="609480"/>
            <a:ext cx="1044432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ontent Placeholder 4" descr="Picture 4.png"/>
          <p:cNvPicPr/>
          <p:nvPr/>
        </p:nvPicPr>
        <p:blipFill>
          <a:blip r:embed="rId1"/>
          <a:srcRect l="0" t="-14138" r="0" b="-14138"/>
          <a:stretch/>
        </p:blipFill>
        <p:spPr>
          <a:xfrm>
            <a:off x="457200" y="0"/>
            <a:ext cx="8229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8T21:42:01Z</dcterms:created>
  <dc:creator>CTLT ISU</dc:creator>
  <dc:description/>
  <dc:language>en-US</dc:language>
  <cp:lastModifiedBy>CTLT ISU</cp:lastModifiedBy>
  <dcterms:modified xsi:type="dcterms:W3CDTF">2009-04-08T21:42:46Z</dcterms:modified>
  <cp:revision>1</cp:revision>
  <dc:subject/>
  <dc:title>ACT 5</dc:title>
</cp:coreProperties>
</file>